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22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13.gif" ContentType="image/gi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850-56A7-4984-9FE6-70F43C98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3EB-DB2B-453D-81C7-599696A9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9BD0-C450-4DA4-A0F6-F19E5A00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CC0-AAE2-41FE-9463-B9E9EC7E3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2763B-3E97-4CA2-BC5C-4727CD91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69078-FA17-466E-8A0B-643D3251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CCD14-02CF-44D2-9A87-33A280B8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7FA26-05D2-4E03-B91F-E9E0725E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4C4CC-C06D-4733-9966-00540C9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211A-0D69-4465-8E17-5C0D476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65C60-7735-43F7-A7B8-13CF272F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1A7-B6B5-48C4-AF34-20566841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EADBB-9456-44EA-808B-FA4EE45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12CC-DFCA-4F4C-AF45-F5D5D5F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4BF2-8E82-4470-B7C2-7891A6C9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FF9A-6148-4BD0-A302-A2420CCC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71FDA-8C46-4206-AA08-C76CC3B5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67A-60B0-4218-90AE-EA7C1C6E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10E-8D0E-4444-9693-5F4EEC7C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661-6022-48ED-89E7-E6D642FE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2CD-DDB2-49A8-9CF9-B46E549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1C6-CA39-41AF-8218-B3E17A1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119-3006-40F6-8B58-85E3564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C67-7297-45EB-9BB9-D7EF0FA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97A-49CD-4B2D-8E05-B6210B655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3DDD-613C-432C-BCCD-5A23FFD5C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gi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Gesundheit Projec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Kaptiel 4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Was tust du f</a:t>
            </a:r>
            <a:r>
              <a:rPr b="0" lang="en-US" sz="40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r deine Gesundheit?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lie Fryszta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gel, Period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C616-38ED-4EF2-B5CC-DEBC1929854A}" type="datetime">
              <a:rPr b="0" lang="en-US" sz="32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….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r meine Gesundheit, ich esse viel Obst und Gemuse, denn das it sehr gut für die Baseball traineri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1490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34320" y="152280"/>
            <a:ext cx="1904760" cy="716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52280" y="2895480"/>
            <a:ext cx="4191120" cy="279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 rot="19979400">
            <a:off x="4876920" y="2742840"/>
            <a:ext cx="2268360" cy="251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 rot="1584600">
            <a:off x="7009920" y="4647960"/>
            <a:ext cx="17589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V="1">
            <a:off x="1066680" y="4343040"/>
            <a:ext cx="1143000" cy="1523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.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3885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jogge jedes Wochende, weil joggen gut für meine Gesundheit ist und für Sport mac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57600" y="4800600"/>
            <a:ext cx="1371600" cy="120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62920" y="5392800"/>
            <a:ext cx="1293840" cy="1065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6172200" y="1523880"/>
            <a:ext cx="2362320" cy="1724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362320" y="1295280"/>
            <a:ext cx="1334880" cy="1819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3733920" y="2666880"/>
            <a:ext cx="90936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380880" y="4648320"/>
            <a:ext cx="2057400" cy="1846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 flipV="1">
            <a:off x="6400440" y="4800600"/>
            <a:ext cx="60948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52880" y="47242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980720" y="2743200"/>
            <a:ext cx="1143000" cy="1219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F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  <a:ea typeface="Arial"/>
              </a:rPr>
              <a:t>ü</a:t>
            </a:r>
            <a:r>
              <a:rPr b="0" lang="en-US" sz="4400" spc="-1" strike="noStrike">
                <a:solidFill>
                  <a:srgbClr val="ffffff"/>
                </a:solidFill>
                <a:latin typeface="Agency FB"/>
              </a:rPr>
              <a:t>r Meine Gesundheit tue.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h rauche nichts!!! Rauchen ist sehr nicht gut für Freunde Besuch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3322800" cy="2465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657600" y="3505320"/>
            <a:ext cx="1697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gency FB"/>
              </a:rPr>
              <a:t>Ich findest es gut, dass du nichts Alkohol trink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 Klar, du nicht trinke Alkohol! Alkohol ist sehr nichts gut fur Freunde Besuchen, und Intervie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3657600" cy="2963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572000" y="2971800"/>
            <a:ext cx="2529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153280" y="685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sse es, dann du rauchst!!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 rauchst?!?! Rauchen ist SEHR nicht gut für deise Lungen und deise Gesundheit!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2708280" cy="2066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276720" y="3124080"/>
            <a:ext cx="2582640" cy="2570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746760" y="4724280"/>
            <a:ext cx="2397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ill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Ich werde meinen Hund mehr zu Fuß gehen!! Meine Hund ist Fett und ich leibe joggen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05520" y="3127320"/>
            <a:ext cx="2981160" cy="2976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914400" y="3429000"/>
            <a:ext cx="371160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ill nichts…. dann…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will nicht zu Droggen zu tun und Alkohol trinken,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weil meine Freunde werden mich nicht mög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193840" cy="229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2690640" cy="2469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162920" y="2666880"/>
            <a:ext cx="11858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AS END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15:42Z</dcterms:created>
  <dc:creator>CUSD220</dc:creator>
  <dc:description/>
  <dc:language>en-US</dc:language>
  <cp:lastModifiedBy>CUSD220</cp:lastModifiedBy>
  <dcterms:modified xsi:type="dcterms:W3CDTF">2012-02-24T17:28:24Z</dcterms:modified>
  <cp:revision>13</cp:revision>
  <dc:subject/>
  <dc:title>Gesundheit Project Kaptial 4  Was tust du für deine Gesundheit???</dc:title>
</cp:coreProperties>
</file>